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E1D-E3F1-4F21-B839-161BD78D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27A3-5075-4177-BF55-E973BE4B066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B248-3C17-4A0E-A4D7-A2549C95DA9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A69-DD41-49FB-AFFA-8C34A307DC9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51E-7F12-484F-835C-00DF7CF09C0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82D-DE0F-4407-A260-624116EEDA1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25CF-9774-4ADB-8C70-CEB6C09ABFE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FEE-4E60-4140-A538-95ED177BF28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ACA2-3838-4770-A6C5-EF604463C23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E158-847F-4317-9127-17D3573B1BF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19AE-6B08-4728-A646-CEFBB5E7E57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767-DC69-4EAB-9850-C834359C854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868C-9D63-4D5E-9777-71F78A044C6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DC3-7E37-4320-B2E5-1F9BE21E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BE2-A509-4CF1-BD95-1EDBAA75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339-B494-42BA-88FF-52800710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EB8-3150-42C1-92FC-1417804C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9D44-B4EE-4D27-B0E0-B583D72F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C18B-9F30-4295-A0A6-D8D1792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341-E700-4E6E-AA21-2015B97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6879-2F19-4DFC-869E-E1F95BD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74F5-5BD6-447E-B1E1-66D0D24F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7AE-BC14-4283-BAE6-DCC15122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4FD4-92A0-4BE5-8F02-DEA41D2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9A7-0E35-489E-A271-3C48F20A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F529-F774-4003-BE53-AE7D339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4C5E-09DF-47BB-BDC1-42F31AC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8B56-96B5-4FE9-8900-FFCEAADF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A115-5005-4E9D-B5BC-6F0A1417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AE22-3346-456E-AAB7-F3A3D29A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57D-F144-4173-8D5F-F753B7A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513-0F5F-4670-80BF-5B9B1E2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646-EA89-476F-821F-390D936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EC8-AFE8-4807-92D7-8D6FB12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FCC-D959-4351-ACBC-1CEFCE8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45AA-E12C-4AB5-B24F-1744774A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E99-B517-48C7-81F9-F1DFA26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2B7-1A02-4079-9D4A-6C965B13261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5E82-0BC6-4B0C-BBEE-4B090DB966D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st Common Multi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sson 3-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3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4 and 1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2057400"/>
            <a:ext cx="24386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8, 12, 1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480" y="2819520"/>
            <a:ext cx="243864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, 24,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523880" y="20574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609480" y="281952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191120" y="3352680"/>
            <a:ext cx="297180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swer: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5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6 and 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2286000"/>
            <a:ext cx="411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12, 18, 24, 30,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480" y="2971800"/>
            <a:ext cx="457200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, 40, 60, 80, 100, 1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495680" y="2286000"/>
            <a:ext cx="28195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2, 48, 54,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6553080" y="22860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1981080" y="29718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52480" y="4800600"/>
            <a:ext cx="3124440" cy="6426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swer: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Using Our Friend Venn to find LCM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wo numbers:  multiply all factors together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hree numbers:  multiply all factors together. 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Content Placeholder 6" descr=""/>
          <p:cNvPicPr/>
          <p:nvPr/>
        </p:nvPicPr>
        <p:blipFill>
          <a:blip r:embed="rId1"/>
          <a:stretch/>
        </p:blipFill>
        <p:spPr>
          <a:xfrm>
            <a:off x="45072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7"/>
          <p:cNvSpPr/>
          <p:nvPr/>
        </p:nvSpPr>
        <p:spPr>
          <a:xfrm>
            <a:off x="2209680" y="3657600"/>
            <a:ext cx="762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both number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Content Placeholder 8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5486400" y="380988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6781680" y="3886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324480" y="4648320"/>
            <a:ext cx="685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048120" y="6553080"/>
            <a:ext cx="35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981080" y="6273720"/>
            <a:ext cx="3886200" cy="580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agic triangle!  Put factors shared by all three numbers here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0" name="Straight Arrow Connector 13"/>
          <p:cNvCxnSpPr/>
          <p:nvPr/>
        </p:nvCxnSpPr>
        <p:spPr>
          <a:xfrm flipV="1">
            <a:off x="5334120" y="4342680"/>
            <a:ext cx="1296000" cy="1981800"/>
          </a:xfrm>
          <a:prstGeom prst="straightConnector1">
            <a:avLst/>
          </a:prstGeom>
          <a:ln cap="sq" w="31680">
            <a:solidFill>
              <a:srgbClr val="ffffcc"/>
            </a:solidFill>
            <a:bevel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320" y="2017800"/>
            <a:ext cx="2816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6095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152388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505320" y="18129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876920" y="18129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71600" y="326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343400" y="3260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715000" y="32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143000" y="4724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715000" y="47084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st Common Multiple (LCM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least common multiple is the smallest number that is common between two lists of multip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 the LCM of 12 and 1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04920" y="1905120"/>
            <a:ext cx="4267080" cy="48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multiples of 12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1 =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2 =2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3 =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4 = 4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5 =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00600" y="1905120"/>
            <a:ext cx="4038480" cy="48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multiples of  18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1 = 1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2 =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3 = 5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4 = 7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5 =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228600"/>
            <a:ext cx="41907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, 24, 36, 48,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990720"/>
            <a:ext cx="41907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, 36, 54, 72,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3623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irst number you see in both lists is 36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219320" y="1066680"/>
            <a:ext cx="609480" cy="60984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905120" y="228600"/>
            <a:ext cx="685800" cy="6858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3733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least common multiple of 12 and 18 is 36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2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9 and 1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2514600"/>
            <a:ext cx="57150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, 18, 27, 36, 45, 54, 63, 7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3200400"/>
            <a:ext cx="571500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, 20, 30, 40, 50, 60, 70, 8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3520" y="3962520"/>
            <a:ext cx="5790960" cy="8254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don’t see a common multiple, make each list go furth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867280" y="2514600"/>
            <a:ext cx="26672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1, 90, 9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019920" y="3200400"/>
            <a:ext cx="259056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0, 100, 11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6553080" y="25146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6019920" y="32004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480" y="5029200"/>
            <a:ext cx="5867640" cy="6426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LCM of 9 and 10 is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37:57Z</dcterms:created>
  <dc:creator>Josh Hammond</dc:creator>
  <dc:description/>
  <dc:language>en-US</dc:language>
  <cp:lastModifiedBy>Home</cp:lastModifiedBy>
  <dcterms:modified xsi:type="dcterms:W3CDTF">2010-11-14T16:29:28Z</dcterms:modified>
  <cp:revision>7</cp:revision>
  <dc:subject/>
  <dc:title>Least Common Multiple</dc:title>
</cp:coreProperties>
</file>